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02E-14BC-4192-B393-C3D050815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5965-993E-4F14-AEF0-6787F1633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B34-46DC-4DA6-80E7-4F4B704A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478-72CD-4038-A4AC-82B8BBB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5B6-4B15-471B-9D76-9AA99CD2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942-3EB1-48E5-8B95-0D780962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FD4-D5FD-4AAF-A320-D6D2E919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482-F30A-4C62-A62F-51B5991D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F38-B7B2-4FFB-BBE1-BEA7BEF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F73-55B8-4CA7-8420-66BD3269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6B7-9579-4C15-B057-793E607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54F-10F1-459D-A86A-F5B19EB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C5D-9E6F-4066-9CE3-4D5C8D8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781-318B-4314-9F39-7CA89D6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110-E0A0-4471-98E6-03FDD5AEA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690A-5637-44A6-BBFE-4C792E13A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апрел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517B-50B5-4C66-A7D0-856A828F4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прел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4-01T04:10:13Z</dcterms:modified>
  <cp:revision>137</cp:revision>
  <dc:subject/>
  <dc:title>Презентация PowerPoint</dc:title>
</cp:coreProperties>
</file>